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03A9-9F04-4A0F-B222-5D102615F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0C3D-79E6-4FBE-AB35-ECE3D00E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42BC-9FA1-49F5-8F21-37E3EC28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6234-208A-4B99-A56E-0FA7A6CDE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CF7F5-E125-4B71-A3B5-18E4629A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93BD3-2CDF-4304-9318-A33691A0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9F460-DDFA-49F9-9270-39644D54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AB584-E3CF-49FC-8192-6F999D3E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2234E-CD6D-4E7B-8F56-8328D488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B5262-7A59-48ED-9D92-28B68FDC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2DB0E-62FC-483E-8827-2A70CC99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2BA6-67EE-42D7-928B-C25CDA0B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BB527-3386-4F0C-8AC4-E613E1BB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E25F1-CDAA-4AD0-A4E0-58337346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7879D-D9D0-431F-9907-6E36CAB2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5093C-71B1-42BC-8711-FD53DFC1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BC418-C683-48F8-9B06-05C9E1C5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C595-EC1D-4175-9D41-BF79858E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DC6E-48BD-47CC-B9A9-A2F4397D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C6FD-FCDC-4B2E-A7CB-B72E8BB0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FA3A-7F13-424A-9899-C2966F20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260E-0500-4F51-96BA-C996609C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DC82-F576-48E5-88B2-8E939C5A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8132-9093-46FE-A367-61B95280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EBFF-8A84-42E9-9D62-6B5A50221442}" type="datetime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١٤٤٨/٠٢/١٧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9968-B91A-445A-B322-7D5124C8ECD0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9974-F981-423D-B0D3-C3FB048F3251}" type="datetime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١٤٤٨/٠٢/١٧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B924-0B98-4372-A7BD-76337EB4784A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4360" y="981000"/>
            <a:ext cx="799128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36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FRAS 6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التنقيب عنه وتقييم الموارد التعدينية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610884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02F01-D974-47D6-A5A1-A8403F53A44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لا يتم الاعتراف بالمصروفات التى تتحملها المنشأة من أجل تطوير الموارد التعدينية باعتبارها كأصول تنقيب و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ACF6-A9BA-414B-8AD7-E3E4DA0028D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95280" y="1412640"/>
            <a:ext cx="4629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بويب أصول التنقيب والتقييم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صول ملموسة مثل : سيارات ، حفار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صول غير ملموسة مثل : حقوق الحف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B87D-6550-4883-A13E-0661AA572FE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عندما تكون القيمة الدفترية لهذه الاصول أكبر من قيمتها الاستردادية، وفى تلك الحالة يتم الاعتراف بأى خسائر كمصروفات تدرج ضمن قائمة الدخ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×××      من حـ/ المصروف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                  ×××     الى حـ/ مجمع الاستنفا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ويسمى ذلك باختبار الاضمحلال أو القابلية للتغطية أو الانخفا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62064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 u="sng">
                <a:solidFill>
                  <a:srgbClr val="ffff00"/>
                </a:solidFill>
                <a:uFillTx/>
                <a:latin typeface="Arial"/>
              </a:rPr>
              <a:t>إنخفاض قيمة أصول التنقيب والتقييم: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3BC5-DFDF-4FF5-B9C1-EBCEA30BF0A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على المنشأة الإعتراف بأى التزامات تتعلق بالازالة والتجديد التى تكبدتها خلال فترة محددة كنتيجة لقيامها بالتنقيب عن وتقييم الموارد التعدينية.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92AC-64DB-4C16-88F5-F3F859C28D7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40000" y="620640"/>
            <a:ext cx="454644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يجب على المنشأة الافصاح عن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أ   - سياستها المحاسبية فى معالجة نفقات التنقيب وال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ب - قيم الاصول والالتزامات والايراد والمصروف والتدفقات النقدية من أنشطة التشغيل والاستثمار الناتجة عن التنقيب وال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جـ - معالجة أصول التنقيب والتقييم كأصول مستقلة وأنه يتم الافصاح عنها فى حالة إذا كانت أصول ملموسة أو غير ملموس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6CB7-950B-45DF-98F0-6223F171A51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5690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مصروف الاستنفاذ = ـ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ــــــــــــــــــــــــــــــــــــــــــــــــــــــــــــــــــــــــــــــــــــــ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× عدد الوحدات المنتجة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28760" y="3259080"/>
            <a:ext cx="493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لنفقات التى تكبدتها المنشأة فى سبيل التنقيب والتقييم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3933720"/>
            <a:ext cx="392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جمالى كمية الانتاج المتوقع انتاجها بالوحدات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87280" y="177336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* كيفية احتساب الاستنفاذ لأصو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DAB33-557C-4266-BAC3-946DC5BED1E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4365360"/>
            <a:ext cx="874872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طلـوب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:-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تحديد قيمة مصروفات الاستنفا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قيود اليومية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تحديد صافى قيمة الأصل فى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1/12/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54936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62064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ثال توضيحى :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قامت إحدى شركات الاستكشاف عن البترول بتكبد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جنيه مصرى فى سبيل التنقيب عن أحد آبار البترول بالصحراء الغربية، وقد كانت كمية الانتاج المتوقع استخراجها طبقاً للدراسة الهندسية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برميل، وعند الرجوع لدفاتر الشركة اتضح أن كمية الوحدات المنتجة خلال العام المالى المنتهى فى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1/12/2006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تقدر بـ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برمي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34C3-94A8-4F7D-A4F9-42EB605AF07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04000" y="475920"/>
            <a:ext cx="1882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الحــل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314000"/>
            <a:ext cx="8686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 الاستنفاذ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= ــــــــــــــــــــــــــــــــــــ ×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         =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جنيه مص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قيود اليومية: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من حـ/ أصول التنقيب والتقيي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الى حـ/ النقد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                       ـــــــــــــــــــــــــــــــــــــــــــــــــــــــــــــــــــ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من حـ/ مصروف الاستفاذ – قائمة الدخ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الى حـ/ مجمع الاستنفاذ - ميزان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صافى قيمة الأصل فى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31/12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تكلفة أصول التنقيب والاستكشا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(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)          مجمع الاستنفا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ــــــــــــــــــــــــــــ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450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       صافى قيمة الاصل فى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31/12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03760" y="141300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64000" y="177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B426-6B98-46FB-8FE9-21E8884E8007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71280" y="228240"/>
            <a:ext cx="63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المقصود بنفقات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هى النفقات التى تتكبدها المنشأة والمتعلقة بالتنقيب عن وتقييم الموارد التعدينية قبل أن تتضح الجدوى الفنية والفائدة التجارية لاستخراج الموارد التعدين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062E-FD56-4C53-B843-132679A4C92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 u="sng">
                <a:solidFill>
                  <a:srgbClr val="ffff00"/>
                </a:solidFill>
                <a:uFillTx/>
                <a:latin typeface="Arial"/>
              </a:rPr>
              <a:t>المقصود بالتنقيب عن وتقييم الموارد التعدينية:-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هو البحث عن الموارد التعدينية والموارد غير المتجددة بعد حصول المنشأة على الحقوق القانونية للتنقيب فى  منطقة محددة وكذلك تحديد الجدوى الفنية والفائدة التجارية منه إستخراج المورد التعدين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مثال على ذلك : المعادنة – البترول – الغاز الطبيع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9C2B-E6DA-4A88-8FA3-A2FF1107B1B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55640" y="2060640"/>
            <a:ext cx="770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ff"/>
                </a:solidFill>
                <a:latin typeface="Arial"/>
              </a:rPr>
              <a:t>يعترف بنفقات التنقيب والتقييم كأصول طبقاً للسياسة المحاسبية للمنشأ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AE02-4862-4E52-921F-1D71F5AEB18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يطبق هذا المعيار على النفقات التى تكبدتها المنشأة فى سبي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A7B4-1255-4939-AD5B-F307D9280BA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00"/>
                </a:solidFill>
                <a:latin typeface="Arial"/>
              </a:rPr>
              <a:t>لا تطبق المنشأة هذا المعيار فى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- النفقات المتكبدة قبل التنقيب عن وتقييم الموارد التعدينية مثل النفقات المتكبدة قبل حصول المنشأة على الحقوق القانونية للتنقيب فى منطقة محدد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- النفقات المتكبدة بعد أن تظهر بوضوح الجدوى الفنية والقدرة التجارية لاستخراج الموارد التعدين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A640-1D16-4379-9608-B624363CBD4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84360" y="16999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قياس أصول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306828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القياس الأولــــى : بالتكلف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القيـاس اللاحـــق : إعادة تقييم الأصو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6DCC-9FDD-4C33-A9DE-550724AB291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عناصر تكاليف أصول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هى التكاليف التى تساهم فى إكتشاف موارد تعدينية مثل: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حصول على حقوق التنقيب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دراسة الطبوغرافية والجيولوج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حفر للتنقيب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حفر الآبا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خذ العينات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انشطة المرتبطة بتقييم الجدوى الفنية والقدرة التجار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5CB7-B934-423A-8896-BF99084AA7B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تغيير فى السياسات المحاسبية فى حالة تغيير المنشأة لسياستها المحاسبية فيما يتعلق بنفقات التنقيب والتقييم فيجب عليها أن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أ   - تفصح عن أسباب ذل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ب - أثر ذلك على القوائم المال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6220-E1F9-4455-8F63-C653A48DE59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4:11:57Z</dcterms:created>
  <dc:creator>h.awadain</dc:creator>
  <dc:description/>
  <dc:language>en-US</dc:language>
  <cp:lastModifiedBy>k.refaat</cp:lastModifiedBy>
  <dcterms:modified xsi:type="dcterms:W3CDTF">2006-11-06T13:07:48Z</dcterms:modified>
  <cp:revision>18</cp:revision>
  <dc:subject/>
  <dc:title>المقصود بنفقات التنقيب والتقييم:-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